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287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193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287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6696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1460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1932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6696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1460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93680" y="228600"/>
            <a:ext cx="8381880" cy="1141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8600" y="6172200"/>
            <a:ext cx="8153280" cy="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94480" y="6251400"/>
            <a:ext cx="340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1200"/>
            </a:b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034040" y="6234120"/>
            <a:ext cx="160020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3680" y="422280"/>
            <a:ext cx="8381880" cy="1141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19807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8600" y="6172200"/>
            <a:ext cx="8153280" cy="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7920" y="380880"/>
            <a:ext cx="606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8080"/>
                </a:solidFill>
                <a:latin typeface="Arial"/>
              </a:rPr>
              <a:t>NA-M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2200"/>
            </a:br>
            <a:r>
              <a:rPr b="0" i="1" lang="en-US" sz="2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1980720"/>
            <a:ext cx="70866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HM 2008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086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m Mi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ing Core, GE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867280" y="5140440"/>
            <a:ext cx="2743200" cy="95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in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thon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line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editing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iz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P Pip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 Cortical Thick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ExecutionModelPlugins2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1905120" cy="1585800"/>
          </a:xfrm>
          <a:prstGeom prst="rect">
            <a:avLst/>
          </a:prstGeom>
          <a:ln w="0">
            <a:noFill/>
          </a:ln>
        </p:spPr>
      </p:pic>
      <p:pic>
        <p:nvPicPr>
          <p:cNvPr id="89" name="LightBox2" descr=""/>
          <p:cNvPicPr/>
          <p:nvPr/>
        </p:nvPicPr>
        <p:blipFill>
          <a:blip r:embed="rId2"/>
          <a:stretch/>
        </p:blipFill>
        <p:spPr>
          <a:xfrm>
            <a:off x="6400800" y="2746440"/>
            <a:ext cx="208764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lugin architectur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9880" y="1676160"/>
            <a:ext cx="5029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ule discovery improv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eking for global symbo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c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e multiple versions (DLL, EXE) for interactive and b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ule parameter seri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module parameter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s, transforms, color tables, model hierarc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module parameter attrib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=“true”, fileExtensions=“.nrrd”, hidden=“true”, reference=“foo”, aggregate=“tru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ation on adding parameter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command line modules from a Slicer installation (in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ExecutionModelPlugins2" descr=""/>
          <p:cNvPicPr/>
          <p:nvPr/>
        </p:nvPicPr>
        <p:blipFill>
          <a:blip r:embed="rId1"/>
          <a:stretch/>
        </p:blipFill>
        <p:spPr>
          <a:xfrm>
            <a:off x="228600" y="1663560"/>
            <a:ext cx="3492360" cy="2908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9480" y="47242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rchitecture for interactive and batch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ython integrati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4800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 2007 AHM, it was evident that high quality 2D plotting inside Slicer wa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Python modu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tplot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-MIC compatible lic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 quality plo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a Python interpreter into Sl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“Matlab-style” access to images in the MRML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Python-based command line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1752480"/>
            <a:ext cx="2743200" cy="2530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&gt;&gt;&gt; import Slic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&gt;&gt;&gt; import scipy.ndima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&gt;&gt;&gt; nodes = Slicer.ListVolumeNodes(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&gt;&gt;&gt; nod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{0: vtkTemp1554}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&gt;&gt;&gt; t2 = nodes[0]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&gt;&gt;&gt; t2.GetName(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'T2_MGH.nhdr'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&gt;&gt;&gt; data = t2.GetImageData().ToArray(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&gt;&gt;&gt; temp = scipy.ndimage.gaussian_filter ( data, 2.0 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&gt;&gt;&gt; data[:] = temp[:]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&gt;&gt;&gt; from pylab import *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&gt;&gt;&gt; imshow ( data[128,:,:] 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&gt;&gt;&gt; show(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&gt;&gt;&gt; hist ( data, 20 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ythonhist" descr=""/>
          <p:cNvPicPr/>
          <p:nvPr/>
        </p:nvPicPr>
        <p:blipFill>
          <a:blip r:embed="rId1"/>
          <a:stretch/>
        </p:blipFill>
        <p:spPr>
          <a:xfrm>
            <a:off x="7543800" y="472428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Pythonimshow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160020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85800" y="1828800"/>
            <a:ext cx="2023560" cy="2282760"/>
            <a:chOff x="685800" y="1828800"/>
            <a:chExt cx="2023560" cy="2282760"/>
          </a:xfrm>
        </p:grpSpPr>
        <p:pic>
          <p:nvPicPr>
            <p:cNvPr id="101" name="OtsuParameters" descr=""/>
            <p:cNvPicPr/>
            <p:nvPr/>
          </p:nvPicPr>
          <p:blipFill>
            <a:blip r:embed="rId1"/>
            <a:stretch/>
          </p:blipFill>
          <p:spPr>
            <a:xfrm>
              <a:off x="685800" y="1828800"/>
              <a:ext cx="1851840" cy="2282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2" name=""/>
            <p:cNvSpPr/>
            <p:nvPr/>
          </p:nvSpPr>
          <p:spPr>
            <a:xfrm>
              <a:off x="1835280" y="2665080"/>
              <a:ext cx="874080" cy="466200"/>
            </a:xfrm>
            <a:custGeom>
              <a:avLst/>
              <a:gdLst/>
              <a:ahLst/>
              <a:rect l="l" t="t" r="r" b="b"/>
              <a:pathLst>
                <a:path w="803" h="428">
                  <a:moveTo>
                    <a:pt x="402" y="108"/>
                  </a:moveTo>
                  <a:cubicBezTo>
                    <a:pt x="289" y="129"/>
                    <a:pt x="173" y="138"/>
                    <a:pt x="63" y="170"/>
                  </a:cubicBezTo>
                  <a:cubicBezTo>
                    <a:pt x="46" y="175"/>
                    <a:pt x="35" y="215"/>
                    <a:pt x="35" y="215"/>
                  </a:cubicBezTo>
                  <a:cubicBezTo>
                    <a:pt x="0" y="348"/>
                    <a:pt x="116" y="413"/>
                    <a:pt x="227" y="424"/>
                  </a:cubicBezTo>
                  <a:cubicBezTo>
                    <a:pt x="374" y="420"/>
                    <a:pt x="386" y="428"/>
                    <a:pt x="498" y="407"/>
                  </a:cubicBezTo>
                  <a:cubicBezTo>
                    <a:pt x="541" y="399"/>
                    <a:pt x="628" y="385"/>
                    <a:pt x="628" y="385"/>
                  </a:cubicBezTo>
                  <a:cubicBezTo>
                    <a:pt x="671" y="374"/>
                    <a:pt x="719" y="368"/>
                    <a:pt x="758" y="345"/>
                  </a:cubicBezTo>
                  <a:cubicBezTo>
                    <a:pt x="778" y="334"/>
                    <a:pt x="803" y="294"/>
                    <a:pt x="803" y="294"/>
                  </a:cubicBezTo>
                  <a:cubicBezTo>
                    <a:pt x="801" y="262"/>
                    <a:pt x="802" y="230"/>
                    <a:pt x="797" y="198"/>
                  </a:cubicBezTo>
                  <a:cubicBezTo>
                    <a:pt x="793" y="173"/>
                    <a:pt x="764" y="160"/>
                    <a:pt x="746" y="142"/>
                  </a:cubicBezTo>
                  <a:cubicBezTo>
                    <a:pt x="657" y="53"/>
                    <a:pt x="562" y="13"/>
                    <a:pt x="436" y="1"/>
                  </a:cubicBezTo>
                  <a:cubicBezTo>
                    <a:pt x="297" y="4"/>
                    <a:pt x="249" y="0"/>
                    <a:pt x="142" y="23"/>
                  </a:cubicBezTo>
                  <a:cubicBezTo>
                    <a:pt x="133" y="33"/>
                    <a:pt x="114" y="52"/>
                    <a:pt x="114" y="5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09480" y="4267080"/>
            <a:ext cx="2210040" cy="18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re 3 feedback on parameter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1080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su Threshold Seg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1080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de parameters reflect the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t the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92560" y="4267080"/>
            <a:ext cx="2209680" cy="18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re 1 feedback on parameter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1080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fine and rigid 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1080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 initial and registration transforms a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4267080"/>
            <a:ext cx="2209680" cy="18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re 3 feedback on capab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1108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elmap smoo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1108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Utah technique to smooth labelmaps with level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LabelMapSmoothing" descr=""/>
          <p:cNvPicPr/>
          <p:nvPr/>
        </p:nvPicPr>
        <p:blipFill>
          <a:blip r:embed="rId2"/>
          <a:stretch/>
        </p:blipFill>
        <p:spPr>
          <a:xfrm>
            <a:off x="6248520" y="2416320"/>
            <a:ext cx="2286000" cy="1695240"/>
          </a:xfrm>
          <a:prstGeom prst="rect">
            <a:avLst/>
          </a:prstGeom>
          <a:ln w="0">
            <a:noFill/>
          </a:ln>
        </p:spPr>
      </p:pic>
      <p:pic>
        <p:nvPicPr>
          <p:cNvPr id="107" name="NotRegistered" descr=""/>
          <p:cNvPicPr/>
          <p:nvPr/>
        </p:nvPicPr>
        <p:blipFill>
          <a:blip r:embed="rId3"/>
          <a:stretch/>
        </p:blipFill>
        <p:spPr>
          <a:xfrm>
            <a:off x="3216240" y="1600200"/>
            <a:ext cx="1719360" cy="1276200"/>
          </a:xfrm>
          <a:prstGeom prst="rect">
            <a:avLst/>
          </a:prstGeom>
          <a:ln w="0">
            <a:noFill/>
          </a:ln>
        </p:spPr>
      </p:pic>
      <p:pic>
        <p:nvPicPr>
          <p:cNvPr id="108" name="RegistrationWithTransforms" descr=""/>
          <p:cNvPicPr/>
          <p:nvPr/>
        </p:nvPicPr>
        <p:blipFill>
          <a:blip r:embed="rId4"/>
          <a:stretch/>
        </p:blipFill>
        <p:spPr>
          <a:xfrm>
            <a:off x="3902040" y="2824200"/>
            <a:ext cx="1736640" cy="12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47720" y="1712880"/>
            <a:ext cx="3013200" cy="3122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teractive editing tool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01760" y="4836960"/>
            <a:ext cx="189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Tr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dge connectivit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gion connectivit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96080" y="4876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 C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57640" y="5295960"/>
            <a:ext cx="3276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Vezhnevets V., Konouchine V.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active Multi-Label N-D Image Segmentation By Cellular Automata", Graphicon-2005, Novosibirsk Akademgorodok, Russia, 200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170320" y="1677960"/>
            <a:ext cx="1754280" cy="2112480"/>
            <a:chOff x="5170320" y="1677960"/>
            <a:chExt cx="1754280" cy="2112480"/>
          </a:xfrm>
        </p:grpSpPr>
        <p:pic>
          <p:nvPicPr>
            <p:cNvPr id="115" name="BrainT1Slice-flip" descr=""/>
            <p:cNvPicPr/>
            <p:nvPr/>
          </p:nvPicPr>
          <p:blipFill>
            <a:blip r:embed="rId2"/>
            <a:stretch/>
          </p:blipFill>
          <p:spPr>
            <a:xfrm>
              <a:off x="5170320" y="1688760"/>
              <a:ext cx="1754280" cy="21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seedsColor" descr=""/>
            <p:cNvPicPr/>
            <p:nvPr/>
          </p:nvPicPr>
          <p:blipFill>
            <a:blip r:embed="rId3"/>
            <a:srcRect l="0" t="1171" r="1835" b="0"/>
            <a:stretch/>
          </p:blipFill>
          <p:spPr>
            <a:xfrm>
              <a:off x="5178240" y="1677960"/>
              <a:ext cx="1743120" cy="210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out-5label-flip" descr=""/>
          <p:cNvPicPr/>
          <p:nvPr/>
        </p:nvPicPr>
        <p:blipFill>
          <a:blip r:embed="rId4"/>
          <a:stretch/>
        </p:blipFill>
        <p:spPr>
          <a:xfrm>
            <a:off x="6473880" y="2768760"/>
            <a:ext cx="1725480" cy="206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eformat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3089160" cy="2292480"/>
          </a:xfrm>
          <a:prstGeom prst="rect">
            <a:avLst/>
          </a:prstGeom>
          <a:ln w="0">
            <a:noFill/>
          </a:ln>
        </p:spPr>
      </p:pic>
      <p:pic>
        <p:nvPicPr>
          <p:cNvPr id="119" name="LightBox2" descr=""/>
          <p:cNvPicPr/>
          <p:nvPr/>
        </p:nvPicPr>
        <p:blipFill>
          <a:blip r:embed="rId2"/>
          <a:stretch/>
        </p:blipFill>
        <p:spPr>
          <a:xfrm>
            <a:off x="2332080" y="2133720"/>
            <a:ext cx="2468520" cy="18302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isualization tool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LightBox1" descr=""/>
          <p:cNvPicPr/>
          <p:nvPr/>
        </p:nvPicPr>
        <p:blipFill>
          <a:blip r:embed="rId3"/>
          <a:stretch/>
        </p:blipFill>
        <p:spPr>
          <a:xfrm>
            <a:off x="503280" y="1676520"/>
            <a:ext cx="2468520" cy="1830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98560" y="3962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box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67680" y="33908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BP Pipelin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 Cortical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her Cody Hazlett, Joseph Piven, Jim Miller, Martin Styner, Clement Vachet, Ipek Oguz, Nicolas Augier, Marc Niethamm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dividual and group analysis of regional and local cortical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ite matter / grey matter se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cal cortical thickness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cal correspo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actoring registration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an initial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final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id, affine, B-spline, vector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238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manager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linear trans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transforms verses modeling trans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 frames, scene descriptions &amp; command line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ampling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WI and DTI via itk::MRMLIDImage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 model hierarch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parametric hypothesis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command line modules from a Slicer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chMake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V 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” 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Slicer front-ends, reconfigurable layo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box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 analysi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12:24:33Z</dcterms:created>
  <dc:creator>NAMIC</dc:creator>
  <dc:description/>
  <dc:language>en-US</dc:language>
  <cp:lastModifiedBy>GE Global Research</cp:lastModifiedBy>
  <dcterms:modified xsi:type="dcterms:W3CDTF">2008-01-09T21:32:59Z</dcterms:modified>
  <cp:revision>135</cp:revision>
  <dc:subject/>
  <dc:title>National Alliance for Medical Image Computing: Namic</dc:title>
</cp:coreProperties>
</file>